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616-E802-4374-A5E9-9A7EEB56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C80-3C68-4B7B-A679-CC057E12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67B-1C10-4441-AB2E-194A3476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B48-4AC7-4209-BBE5-17ADF4AD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8E6-87CF-414C-A799-A5593CB9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FC6-EC01-45B0-A1FD-444922A7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9E4-AC68-4113-BA4E-0736CC6E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386-E6BC-43AA-8708-8288EE02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5A1-FB08-492E-9F06-524E1680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03A-BBEC-488B-BB97-93AAF2D0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F8B-ABB2-4619-B2AC-19A9FE7F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AFE-B962-4755-B2E4-8814BEC8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Click to edit the title text format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0440-EF03-4F0F-90EC-D9006199DC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4960" y="838080"/>
            <a:ext cx="5105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w Cen MT"/>
              </a:rPr>
              <a:t>Chauc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w Cen MT"/>
              </a:rPr>
              <a:t>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w Cen MT"/>
              </a:rPr>
              <a:t>The Canterbury Tales</a:t>
            </a:r>
            <a:endParaRPr b="1" lang="en-US" sz="5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English Literature and Composition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838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4419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bf1"/>
                </a:solidFill>
                <a:latin typeface="Tw Cen MT"/>
              </a:rPr>
              <a:t>The Pilgrimage</a:t>
            </a:r>
            <a:endParaRPr b="1" lang="en-US" sz="40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tarted at Southwark, Londo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ny different pilgrimage routes started her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55 miles of dangerous, muddy, rutted, rural Roman roa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ilgrimage season began in April with the return of spring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2128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Chaucer’s Pilgrims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1676520"/>
            <a:ext cx="3581280" cy="3916080"/>
            <a:chOff x="457200" y="1676520"/>
            <a:chExt cx="3581280" cy="39160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457200" y="1676520"/>
              <a:ext cx="3581280" cy="39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457200" y="1676520"/>
              <a:ext cx="3581280" cy="391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ff"/>
                </a:buClr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66720" y="1371240"/>
            <a:ext cx="441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29 pilgrims including Chaucer himself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e Poet-Pilgri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Represent the strata of medieval societ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tarted from the Tabard Inn in Southwark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gree to pass the time with a storytelling competition suggested by their host, Harry Bailey, owner of the Tabar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Layers of Society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Traditional Division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ose who figh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ose who pray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ose who labor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1066680"/>
            <a:ext cx="5029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Levels of Society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Aristocracy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Middle Clas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Lower Class and Ruffian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114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bf1"/>
                </a:solidFill>
                <a:latin typeface="Tw Cen MT"/>
              </a:rPr>
              <a:t>Look out for....</a:t>
            </a:r>
            <a:endParaRPr b="1" lang="en-US" sz="40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hysical characteristic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edieval ideology stated that a person’s physical appearance revealed their inner charact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ife of Bath’s gap teeth, Prioress’ wide forehea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haucer also includes these bits to let you know that many characters aren’t doing what they shoul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rioress’s pets and jewelry, Friar’s obesity, Pardoner’s long hai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Irony and Humor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haucer uses puns and understatement to poke fun at his Pilgrim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is humor is never cruel.  He seems to recognize that all mankind has a bit of the ridiculous withi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Now, let’s join the pilgrimage....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Geoffrey Chaucer (1343 – 1400)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Born to a London family with land and money, but no title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Limited chances for social growth/advancemen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Estimated birth date:  1340 – 1345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Was a brilliant scholar and was well-educated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Became a official in the government, married a woman of rank, and was sent on diplomatic mission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Had considerable political influenc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Geoffrey Chaucer, cont.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as a government official first and a writer secon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386 – lost political influence when his patron left the countr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ost critics believe this is when he began the CT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389 – patron returns, gives C. a new, better government pos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Died October 25, 1400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Buried in Westminster Abbe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rst writer entombed in Poets’ Corn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Not because of literature, but because of loyal gov. servic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Westminster Abbey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69840" y="1600200"/>
            <a:ext cx="30132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2363760"/>
            <a:ext cx="449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The Canterbury Tales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Posthumous publication of unfinished manuscript 1400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Each pilgrim was to have had 2 tales; only 24 complete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Important because...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First book of poetry written in the English languag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haucer chose English over Latin and Italia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erves as a window into medieval social lif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aptured the variations of human temperament and behavior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We still know these peopl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Literary Matters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ramed tale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rologue, story-telling contes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Hearkens to Boccaccio’s </a:t>
            </a:r>
            <a:r>
              <a:rPr b="0" i="1" lang="en-US" sz="2800" spc="-1" strike="noStrike">
                <a:solidFill>
                  <a:srgbClr val="ffffff"/>
                </a:solidFill>
                <a:latin typeface="Tw Cen MT"/>
              </a:rPr>
              <a:t>Decamero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Uses iambic pentameter because it’s so close to the natural rhythm of English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Heroic couplets – iambic pentameter + rhyming couplet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haracterization method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Genres within the Tales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ral different genres are present in the larger body of works.  These include: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ourtly romance (courtly love) – Knight’s Tal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Fabliau – a humorous, satirical, and often bawdy tale dealing with basic human desire for money, sex, or food – Miller’s Tal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ious legend (Saints’ Lives) – Prioress’s Tal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llegory – the characters represent some trait of human nature or some abstract concep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Beast Fable – Nun’s Priest’s Tal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ermo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Moral Tales – Pardoner’s Tal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Why Canterbury?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anterbury Cathedral was the site of a shrine to St. Thomas a Becke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ilgrims believed relics of Becket’s shrine could heal sicknes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Other reason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iving thanks (Knight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Improving chances of salvatio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tonement for sin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mple escape of tra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24280" y="1371600"/>
            <a:ext cx="3942000" cy="4876920"/>
            <a:chOff x="4724280" y="1371600"/>
            <a:chExt cx="3942000" cy="48769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4724280" y="1371600"/>
              <a:ext cx="39420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4724280" y="1371600"/>
              <a:ext cx="394200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bf1"/>
                </a:solidFill>
                <a:latin typeface="Tw Cen MT"/>
              </a:rPr>
              <a:t>St. Thomas a Becket</a:t>
            </a:r>
            <a:endParaRPr b="1" lang="en-US" sz="4000" spc="-1" strike="noStrike">
              <a:solidFill>
                <a:srgbClr val="e3ebf1"/>
              </a:solidFill>
              <a:latin typeface="Tw Cen MT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57200" y="1371600"/>
            <a:ext cx="3281400" cy="4648320"/>
            <a:chOff x="457200" y="1371600"/>
            <a:chExt cx="3281400" cy="46483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32814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457200" y="1371600"/>
              <a:ext cx="32814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62160" y="9144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rchbishop of Canterbury who excommunicated bishops who supported King Henry II’s idea that the State could try clergy for crime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Henry cries, “Will no one rid me of this meddlesome priest?”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4 of his knights race to Canterbury and murder Becket at the altar of the church December 29, 1170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This battle between church and state for primacy would continue until Henry VIII broke with Rom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5:39:29Z</dcterms:created>
  <dc:creator>Shauna Rynn Waters</dc:creator>
  <dc:description/>
  <dc:language>en-US</dc:language>
  <cp:lastModifiedBy>lcipriano</cp:lastModifiedBy>
  <dcterms:modified xsi:type="dcterms:W3CDTF">2009-11-03T14:12:16Z</dcterms:modified>
  <cp:revision>17</cp:revision>
  <dc:subject/>
  <dc:title>Chaucer  and  The Canterbury Tales</dc:title>
</cp:coreProperties>
</file>